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3-2 PowerPoint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9EC9-1C0D-4F0D-9F8E-E9F0F84CFF6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3-2 PowerPoint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3-2 PowerPoint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言語的教室活動案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　　　　　　　　　　　　　資料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3-2 PowerPoint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答え　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301F-F192-44A4-BC29-D75795C8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F254-5CFD-4C5C-8FF3-4FFD2C1F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0FA-C2E6-4B7B-91B7-0BC44893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EC04-810F-4845-9B86-C094B66B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B552-FF52-449F-B3B5-1AA3D0E4D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81F-EC6E-4599-934D-2CF75D0C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3CFC-FB2A-4B90-B566-3C1FF110B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6590-E015-485C-A5D1-CBA370AD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631C-936B-468B-8B30-FB4B296B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EEA-3FCF-4B70-A99C-B02F9978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CC5-FDBD-46DB-8B6A-0617E64F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F574-BE8F-47F0-9DA2-8B7AAF77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C44-F224-4415-B4DA-BD9A07E6C621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Letter Nudg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letter mov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say it in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826920" y="1268280"/>
            <a:ext cx="2159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300720" y="1628640"/>
            <a:ext cx="2376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556000" y="3500280"/>
            <a:ext cx="2303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う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292720" y="4005360"/>
            <a:ext cx="24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3635280" y="476280"/>
            <a:ext cx="18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discrete" valueType="str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ja-JP" sz="4400" spc="-1" strike="noStrike" u="sng">
                <a:solidFill>
                  <a:srgbClr val="000000"/>
                </a:solidFill>
                <a:uFillTx/>
                <a:latin typeface="Arial"/>
              </a:rPr>
              <a:t>　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i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50560" y="3886200"/>
            <a:ext cx="8713800" cy="22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tter is missing from the first 10 lett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have a minute to look a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you say it in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71640" y="4149360"/>
            <a:ext cx="166536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4716360" y="2205000"/>
            <a:ext cx="166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え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348000" y="476280"/>
            <a:ext cx="166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か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95280" y="189000"/>
            <a:ext cx="166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い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6659640" y="404640"/>
            <a:ext cx="16668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う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8"/>
          <p:cNvSpPr/>
          <p:nvPr/>
        </p:nvSpPr>
        <p:spPr>
          <a:xfrm>
            <a:off x="1835280" y="2205000"/>
            <a:ext cx="166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お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6012000" y="4884840"/>
            <a:ext cx="166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き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324000" y="3933720"/>
            <a:ext cx="1666800" cy="19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け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1"/>
          <p:cNvSpPr/>
          <p:nvPr/>
        </p:nvSpPr>
        <p:spPr>
          <a:xfrm>
            <a:off x="6948360" y="2924280"/>
            <a:ext cx="1667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0" spc="-1" strike="noStrike">
                <a:solidFill>
                  <a:srgbClr val="000000"/>
                </a:solidFill>
                <a:latin typeface="Arial"/>
              </a:rPr>
              <a:t>こ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Arial"/>
              </a:rPr>
              <a:t>Letter Squiggle</a:t>
            </a:r>
            <a:r>
              <a:rPr b="0" lang="en-GB" sz="4400" spc="-1" strike="noStrike" u="sng">
                <a:solidFill>
                  <a:srgbClr val="000000"/>
                </a:solidFill>
                <a:uFillTx/>
                <a:latin typeface="Book Antiq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9080"/>
            <a:ext cx="6400800" cy="17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ich letter is mov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you say it in Japane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3348000" y="155736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0" spc="-1" strike="noStrike">
                <a:solidFill>
                  <a:srgbClr val="000000"/>
                </a:solidFill>
                <a:latin typeface="Arial"/>
              </a:rPr>
              <a:t>あ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84360" y="-1108080"/>
            <a:ext cx="1450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6000" spc="-1" strike="noStrike">
                <a:solidFill>
                  <a:srgbClr val="000000"/>
                </a:solidFill>
                <a:latin typeface="Arial"/>
              </a:rPr>
              <a:t>お</a:t>
            </a:r>
            <a:r>
              <a:rPr b="1" lang="ja-JP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5"/>
          <p:cNvGrpSpPr/>
          <p:nvPr/>
        </p:nvGrpSpPr>
        <p:grpSpPr>
          <a:xfrm>
            <a:off x="1187280" y="0"/>
            <a:ext cx="6984720" cy="6335280"/>
            <a:chOff x="1187280" y="0"/>
            <a:chExt cx="6984720" cy="6335280"/>
          </a:xfrm>
        </p:grpSpPr>
        <p:sp>
          <p:nvSpPr>
            <p:cNvPr id="71" name="Puzzle3"/>
            <p:cNvSpPr/>
            <p:nvPr/>
          </p:nvSpPr>
          <p:spPr>
            <a:xfrm>
              <a:off x="4588560" y="0"/>
              <a:ext cx="2745360" cy="3366720"/>
            </a:xfrm>
            <a:custGeom>
              <a:avLst/>
              <a:gdLst>
                <a:gd name="textAreaLeft" fmla="*/ 288360 w 2745360"/>
                <a:gd name="textAreaRight" fmla="*/ 2435040 w 2745360"/>
                <a:gd name="textAreaTop" fmla="*/ 1202760 h 3366720"/>
                <a:gd name="textAreaBottom" fmla="*/ 3153240 h 336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Puzzle2"/>
            <p:cNvSpPr/>
            <p:nvPr/>
          </p:nvSpPr>
          <p:spPr>
            <a:xfrm>
              <a:off x="3790080" y="2452680"/>
              <a:ext cx="4381920" cy="3066120"/>
            </a:xfrm>
            <a:custGeom>
              <a:avLst/>
              <a:gdLst>
                <a:gd name="textAreaLeft" fmla="*/ 1094040 w 4381920"/>
                <a:gd name="textAreaRight" fmla="*/ 3282840 w 4381920"/>
                <a:gd name="textAreaTop" fmla="*/ 955800 h 3066120"/>
                <a:gd name="textAreaBottom" fmla="*/ 2901600 h 306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Puzzle4"/>
            <p:cNvSpPr/>
            <p:nvPr/>
          </p:nvSpPr>
          <p:spPr>
            <a:xfrm>
              <a:off x="2094120" y="2414880"/>
              <a:ext cx="2641680" cy="3920400"/>
            </a:xfrm>
            <a:custGeom>
              <a:avLst/>
              <a:gdLst>
                <a:gd name="textAreaLeft" fmla="*/ 253800 w 2641680"/>
                <a:gd name="textAreaRight" fmla="*/ 2471760 w 2641680"/>
                <a:gd name="textAreaTop" fmla="*/ 1027080 h 3920400"/>
                <a:gd name="textAreaBottom" fmla="*/ 2899800 h 392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Puzzle1"/>
            <p:cNvSpPr/>
            <p:nvPr/>
          </p:nvSpPr>
          <p:spPr>
            <a:xfrm>
              <a:off x="1187280" y="1018440"/>
              <a:ext cx="4436640" cy="2337120"/>
            </a:xfrm>
            <a:custGeom>
              <a:avLst/>
              <a:gdLst>
                <a:gd name="textAreaLeft" fmla="*/ 1249560 w 4436640"/>
                <a:gd name="textAreaRight" fmla="*/ 3312720 w 4436640"/>
                <a:gd name="textAreaTop" fmla="*/ 277920 h 2337120"/>
                <a:gd name="textAreaBottom" fmla="*/ 2115000 h 23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816 -0.58732 C 0.26059 -0.58154 0.26354 -0.57622 0.26545 -0.5702 C 0.27014 -0.55702 0.27847 -0.52949 0.27847 -0.52926 C 0.28194 -0.49826 0.28976 -0.47212 0.29635 -0.44205 C 0.2993 -0.42933 0.3059 -0.38075 0.30746 -0.36895 C 0.31198 -0.27758 0.31076 -0.1832 0.29288 -0.09299 C 0.28073 -0.03215 0.25677 0.04395 0.21979 0.09207 C 0.14861 0.18506 0.05885 0.23618 -0.04618 0.25145 C -0.06528 0.24983 -0.08056 0.2459 -0.09913 0.24243 C -0.11129 0.23271 -0.13958 0.2105 -0.14827 0.19732 C -0.16302 0.17419 -0.15452 0.18483 -0.17361 0.16493 C -0.19688 0.11821 -0.1882 0.13856 -0.20139 0.10479 C -0.2184 0.00323999999999999 -0.19167 -0.06662 -0.14271 -0.14504 C -0.13941 -0.15036 -0.1375 -0.1573 -0.13368 -0.16215 C -0.12952 -0.16747 -0.12361 -0.17048 -0.1191 -0.17534 C -0.11458 -0.1802 -0.11094 -0.18575 -0.10625 -0.19037 C -0.09757 -0.19963 -0.08802 -0.20749 -0.07899 -0.21605 C -0.03611 -0.25607 -0.01597 -0.27805 0.03941 -0.28684 C 0.05764 -0.28637 0.08837 -0.28799 0.10885 -0.28082 C 0.19965 -0.25006 0.23298 -0.13509 0.2401 -0.03493 C 0.23646 0.00671 0.2375 0.03632 0.22726 0.07241 C 0.20989 0.13394 0.1717 0.16493 0.13246 0.20403 C 0.12812 0.20865 0.12483 0.2149 0.11927 0.21906 C 0.11476 0.22276 0.10868 0.22438 0.1033 0.22739 C 0.07882 0.24173 0.05885 0.2496 0.03212 0.25376 C -0.00938 0.24937 -0.04549 0.24752 -0.08264 0.22531 C -0.11146 0.20773 -0.12274 0.18113 -0.13733 0.14782 C -0.16875 0.0768 -0.17483 -0.00115 -0.18837 -0.07842 C -0.19184 -0.12306 -0.19965 -0.16701 -0.20295 -0.21189 C -0.20573 -0.24867 -0.20695 -0.28545 -0.21406 -0.32153 C -0.21754 -0.36548 -0.22274 -0.40782 -0.23038 -0.45084 C -0.23577 -0.48161 -0.23785 -0.51376 -0.24306 -0.54453 C -0.24462 -0.56604 -0.24774 -0.58547 -0.25035 -0.60652 C -0.25208 -0.62387 -0.25035 -0.64145 -0.25035 -0.65903 E">
                                      <p:cBhvr>
                                        <p:cTn id="54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7217 C 0.01128 0.07356 0.02465 0.07703 0.03836 0.08142 C 0.0493 0.09044 0.05989 0.09993 0.07118 0.10826 C 0.07639 0.11219 0.0809 0.1182 0.08646 0.12075 C 0.09097 0.12676 0.09548 0.13046 0.10069 0.13486 C 0.10451 0.1381 0.11232 0.14434 0.11232 0.14457 C 0.1184 0.15568 0.11024 0.14249 0.11944 0.15059 C 0.12066 0.15151 0.12083 0.15406 0.12187 0.15521 C 0.12343 0.15706 0.13142 0.16331 0.1335 0.16609 C 0.14218 0.17765 0.13246 0.16863 0.14062 0.17557 C 0.14149 0.17765 0.14184 0.1802 0.14305 0.18158 C 0.14392 0.18297 0.14583 0.18158 0.14652 0.1832 C 0.14705 0.18459 0.1493 0.19454 0.15 0.19755 C 0.1493 0.23433 0.14965 0.26764 0.14184 0.30257 C 0.13941 0.31321 0.13333 0.32616 0.12882 0.33541 C 0.12621 0.34073 0.11944 0.34929 0.11944 0.34929 C 0.11736 0.35762 0.1151 0.3634 0.11007 0.36849 C 0.10816 0.37613 0.10555 0.38145 0.10069 0.38561 C 0.09791 0.3907 0.09774 0.3944 0.09357 0.3981 C 0.08576 0.41383 0.07691 0.4291 0.06771 0.44367 C 0.06493 0.44807 0.06336 0.45339 0.06059 0.45778 C 0.05208 0.47097 0.04409 0.48415 0.03472 0.49688 C 0.03038 0.50266 0.02725 0.51145 0.02291 0.517 C 0.01458 0.52857 0.00729 0.54175 0.00069 0.55494 C -0.00469 0.56581 -0.00313 0.5517 -0.0099 0.56905 C -0.01615 0.58524 -0.02448 0.59981 -0.03229 0.61462 C -0.03785 0.62526 -0.03143 0.61647 -0.03698 0.6285 C -0.04028 0.63567 -0.04514 0.64191 -0.04879 0.64908 C -0.05035 0.65695 -0.054 0.6625 -0.05695 0.66944 C -0.05834 0.67291 -0.05886 0.67707 -0.06059 0.68031 C -0.06146 0.68193 -0.0632 0.68309 -0.06407 0.68494 C -0.06875 0.69396 -0.06424 0.69396 -0.07223 0.69905 C -0.07361 0.7083 -0.07657 0.71779 -0.08056 0.72588 C -0.08212 0.73352 -0.08542 0.73884 -0.08768 0.74624 C -0.08976 0.76243 -0.09427 0.77886 -0.09827 0.79482 C -0.09966 0.80037 -0.09948 0.80638 -0.10052 0.8117 C -0.10139 0.81587 -0.10295 0.82466 -0.10295 0.82466 C -0.10261 0.86444 -0.10243 0.904 -0.10174 0.94379 C -0.10157 0.95026 -0.09948 0.95443 -0.09584 0.9579 C -0.09028 0.96854 -0.07604 0.98126 -0.0665 0.9845 C -0.06216 0.99005 -0.05868 0.98889 -0.05348 0.99236 C -0.02691 1.01018 -0.02223 1.00069 0.02291 1.00139 C 0.05295 1.00671 0.11354 1.00647 0.11354 1.00671 C 0.13923 1.00416 0.16562 1.00647 0.19114 1.00023 C 0.21232 0.99491 0.2335 0.9845 0.25468 0.98126 C 0.26076 0.97733 0.26319 0.97502 0.26996 0.9734 C 0.27847 0.96808 0.28732 0.96507 0.296 0.9609 C 0.30434 0.95674 0.3118 0.95073 0.32066 0.94841 C 0.33038 0.938 0.34323 0.93315 0.35243 0.92158 C 0.35711 0.91603 0.3618 0.91048 0.36649 0.90446 C 0.37152 0.89799 0.37413 0.89151 0.38055 0.88734 C 0.38281 0.87809 0.3809 0.88341 0.38889 0.87323 L 0.38889 0.87347 C 0.39444 0.86051 0.40225 0.84871 0.40885 0.83692 C 0.41441 0.82697 0.41163 0.83183 0.42066 0.8198 C 0.42187 0.81818 0.42413 0.81517 0.42413 0.8154 C 0.42639 0.80638 0.43593 0.79297 0.43593 0.79297 C 0.43854 0.77978 0.43489 0.79273 0.44062 0.78348 C 0.44444 0.7777 0.44878 0.76752 0.45121 0.76035 C 0.45225 0.75711 0.45295 0.7541 0.45364 0.75063 C 0.45416 0.74832 0.45399 0.74531 0.45468 0.743 C 0.45694 0.7349 0.46198 0.72542 0.46649 0.71964 C 0.46875 0.7046 0.47604 0.68818 0.4842 0.67731 C 0.48784 0.66713 0.49184 0.65649 0.49705 0.64723 C 0.49843 0.64492 0.50034 0.64353 0.50173 0.64122 C 0.50955 0.62734 0.51267 0.61045 0.52413 0.60051 C 0.52725 0.58802 0.5375 0.57668 0.54409 0.56743 C 0.54635 0.56442 0.54687 0.55979 0.54896 0.55656 C 0.55468 0.5473 0.56059 0.53874 0.56771 0.53111 C 0.57274 0.517 0.56666 0.53111 0.57361 0.52209 C 0.57725 0.517 0.57777 0.51353 0.58298 0.51099 C 0.58993 0.4978 0.5783 0.51885 0.59357 0.49849 C 0.60086 0.48855 0.61441 0.47444 0.62413 0.47004 C 0.63055 0.46218 0.64271 0.45593 0.65121 0.45454 C 0.70121 0.45686 0.67361 0.45269 0.69357 0.46079 C 0.71076 0.47675 0.71614 0.50289 0.72777 0.5251 C 0.73663 0.57807 0.7401 0.63659 0.72656 0.68818 C 0.72482 0.70876 0.72413 0.71756 0.71944 0.73514 C 0.71441 0.77446 0.71562 0.81587 0.71354 0.85589 C 0.71215 0.88226 0.71475 0.87555 0.70885 0.88734 C 0.70659 0.89914 0.70364 0.91048 0.69826 0.92019 C 0.69705 0.92621 0.68854 0.94911 0.68541 0.95443 C 0.68333 0.96553 0.67448 0.99028 0.66649 0.99375 C 0.66371 0.99977 0.65711 1.01087 0.65711 1.01087 C 0.65555 1.01735 0.65364 1.02059 0.65 1.02521 C 0.64826 1.03308 0.6434 1.0421 0.64062 1.05019 C 0.63906 1.05482 0.63889 1.05991 0.63715 1.06431 C 0.63524 1.06963 0.63142 1.07818 0.62882 1.08327 C 0.62586 1.10062 0.61493 1.11843 0.60885 1.13486 C 0.60746 1.13856 0.60399 1.13972 0.60173 1.14272 C 0.59722 1.14874 0.59323 1.15545 0.58889 1.16146 C 0.58611 1.16539 0.58177 1.16377 0.58177 1.16932 E">
                                      <p:cBhvr>
                                        <p:cTn id="58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3T18:55:02Z</dcterms:created>
  <dc:creator>Peter Langsam</dc:creator>
  <dc:description/>
  <dc:language>en-US</dc:language>
  <cp:lastModifiedBy>Hiroko Tanaka</cp:lastModifiedBy>
  <cp:lastPrinted>2014-07-31T17:09:27Z</cp:lastPrinted>
  <dcterms:modified xsi:type="dcterms:W3CDTF">2014-07-31T17:09:30Z</dcterms:modified>
  <cp:revision>40</cp:revision>
  <dc:subject/>
  <dc:title>Slide 1</dc:title>
</cp:coreProperties>
</file>